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64CE-AEF8-45B4-A27C-E9FC3590930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../slides/slide10.xml"/><Relationship Id="rId3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" Target="../slides/slide6.xml"/><Relationship Id="rId6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финан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инансы населения или финансы домохозяйст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BEDA-4413-438C-BE29-3DA77827CB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денежных доходов и расходов населен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свод денежных доходов и расходов населения по видам и на условиях обеспечения их равенства за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E5A6-E786-4A0E-9F55-09B57A7DD6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денежных доходов и расходов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90A6-6302-4442-938E-15A6C17283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финансы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финансовые отношения, в результате которых образуются доходы населения и формируются направления их расход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7745-86BB-42DD-827A-DFF1B3CABD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ое назначение личных финансов-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роцессов потребления, поскольку потребление есть результат процесса производства, постольку личные финансы являются производными корпоративных и государственных финан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BA8B-C24C-46AC-8DD3-1E48EEE735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финансы находятся в неразрывной связи с финансами государства и корпоративными финанс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0AB1-E6E5-4BA3-AFFA-C4D8FC340F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авляющая часть личных доходов населения ведёт своё происхождение от корпоративных  и государственных финан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ичные финансы направлены на потребление, а не употребление в качестве капитала, т.е. источника чистого дохо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797A-316F-447C-836A-9D74EC9695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Личные финансы- это все типы финансовых отношений, стороной которых может стать отдельный челове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е отношения с государств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 с иной организацией по поводу выплаты заработной пл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говые отношения с бан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овые отношения со страховыми организац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DA86-7737-4D60-8667-5C45F5E245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источники формирования личных финан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2D60-369D-4A86-833E-1F367E2A6B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ы населения и доходы, соответствующие их месту в процессе вос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0BD6-2B72-4B19-859F-0E4BAD38F4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ТЬ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ждане, которые живут на доходы от собственного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D71B-36EF-4B3E-945F-676FB9F61D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4784-1DD0-43CA-86C8-F24260E1A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FFB3-A44C-4B8A-9ADA-B2D21862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DAFA-0E35-4120-A6BB-CCFEE4905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3A2D-EBAE-4215-A088-3F7817DE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5A82-EE59-4856-BE14-154134D79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B6F7-D0EF-4B48-A62C-1C40A274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6830-6A4F-42A2-B977-65DB3A97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4672-6044-4CB3-9A01-5808A04A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F0C2-345E-4E6C-8C59-644A9CA4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A007-7ADB-4A10-B753-80A4453A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1F06-34C2-4C3B-93C0-9592F856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6D26-9633-470E-9C72-F3544519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4AAE-641C-4519-8D02-5DFE17AD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7A23-DC12-4FF4-B3F7-585B7CDC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E9E1-7BEF-453A-A15A-A299F627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5B8D-7E7C-4478-B788-06122CA44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7343-8C67-4255-8913-B5AE596BE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755D-D835-4461-BCD3-8B5D189E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D0D6-E7E0-4388-88EA-D99A3E23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118E-768B-4C82-B382-A86ECCE0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AF7D-5CAD-48B7-9E33-6C159D19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D8AD-3EED-423D-96F6-1EBCECCC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B059-DD92-4A98-9754-FC948E04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8FBF-6E96-4309-8B77-595CF460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622D-C775-48EE-8BD4-EAC0C11D5D8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61A9-F071-4B3A-B571-2F192C8F6A9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Личные финансы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Финансы населения или финансы домохозяйст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Баланс денежных доходов и расходов населения-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Это свод денежных доходов и расходов населения по видам и на условиях обеспечения их равенства за год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Баланс денежных доходов и расходов насел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1719360"/>
          <a:ext cx="8229600" cy="4411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ежные доход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ежные расход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Личные финансы-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это финансовые отношения, в результате которых образуются доходы населения и формируются направления их расходован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13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Основное назначение личных финансов-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848880" y="2714400"/>
            <a:ext cx="62485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ение процессов потребления, поскольку потребление есть результат процесса производства, постольку личные финансы являются производными корпоративных и государственных финанс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680" y="1600200"/>
            <a:ext cx="76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Личные финансы находятся в неразрывной связи с финансами государства и корпоративными финансам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216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Подавляющая часть личных доходов населения ведёт своё происхождение от корпоративных  и государственных финансов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235728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чные финансы направлены на потребление, а не употребление в качестве капитала, т.е. источника чистого дох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0066"/>
                </a:solidFill>
                <a:latin typeface="Arial"/>
              </a:rPr>
              <a:t>Личные финансы- это все типы финансовых отношений, стороной которых может стать отдельный человек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44944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логовые отношения с государством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ношения с иной организацией по поводу выплаты заработной пла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лговые отношения с банк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раховые отношения со страховыми организация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Основные источники формирования личных финансов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75" name="Organization Chart 7"/>
          <p:cNvGrpSpPr/>
          <p:nvPr/>
        </p:nvGrpSpPr>
        <p:grpSpPr>
          <a:xfrm>
            <a:off x="431640" y="1585800"/>
            <a:ext cx="8208000" cy="4463280"/>
            <a:chOff x="431640" y="1585800"/>
            <a:chExt cx="8208000" cy="4463280"/>
          </a:xfrm>
        </p:grpSpPr>
        <p:cxnSp>
          <p:nvCxnSpPr>
            <p:cNvPr id="176" name="_s1028"/>
            <p:cNvCxnSpPr>
              <a:stCxn id="177" idx="1"/>
              <a:endCxn id="178" idx="2"/>
            </p:cNvCxnSpPr>
            <p:nvPr/>
          </p:nvCxnSpPr>
          <p:spPr>
            <a:xfrm rot="10800000">
              <a:off x="2893320" y="2396520"/>
              <a:ext cx="821520" cy="3246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029"/>
            <p:cNvCxnSpPr>
              <a:stCxn id="180" idx="1"/>
              <a:endCxn id="178" idx="2"/>
            </p:cNvCxnSpPr>
            <p:nvPr/>
          </p:nvCxnSpPr>
          <p:spPr>
            <a:xfrm rot="10800000">
              <a:off x="2893320" y="2396520"/>
              <a:ext cx="821520" cy="2029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_s1030"/>
            <p:cNvCxnSpPr>
              <a:stCxn id="182" idx="1"/>
              <a:endCxn id="178" idx="2"/>
            </p:cNvCxnSpPr>
            <p:nvPr/>
          </p:nvCxnSpPr>
          <p:spPr>
            <a:xfrm rot="10800000">
              <a:off x="2893320" y="2396520"/>
              <a:ext cx="821520" cy="812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8" name="_s1031"/>
            <p:cNvSpPr/>
            <p:nvPr/>
          </p:nvSpPr>
          <p:spPr>
            <a:xfrm>
              <a:off x="431640" y="1585800"/>
              <a:ext cx="4924800" cy="811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ЛИЧНЫЕ ФИНАНС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032"/>
            <p:cNvSpPr/>
            <p:nvPr/>
          </p:nvSpPr>
          <p:spPr>
            <a:xfrm>
              <a:off x="3714840" y="2802960"/>
              <a:ext cx="4924800" cy="811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Зарплата, премии и другие выплат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1033"/>
            <p:cNvSpPr/>
            <p:nvPr/>
          </p:nvSpPr>
          <p:spPr>
            <a:xfrm>
              <a:off x="3714840" y="4020480"/>
              <a:ext cx="4924800" cy="811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енсии, стипендии, зарплата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1034"/>
            <p:cNvSpPr/>
            <p:nvPr/>
          </p:nvSpPr>
          <p:spPr>
            <a:xfrm>
              <a:off x="3714840" y="5237640"/>
              <a:ext cx="4924800" cy="811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Доходы от ценных бумаг, вкладов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0066"/>
                </a:solidFill>
                <a:latin typeface="Arial"/>
              </a:rPr>
              <a:t>Группы населения и доходы, соответствующие их месту в процессе воспроизводства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85800" y="1941480"/>
          <a:ext cx="7696080" cy="469728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712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ad5cff"/>
                          </a:solidFill>
                          <a:latin typeface="Arial"/>
                        </a:rPr>
                        <a:t>ГРУППЫ НАСЕЛЕН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едпринимател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ринимательский доход ( прибыль плюс зарплата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ёмные работник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аботная плат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нть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 от капитала (проценты, дивиденды, арендная плата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работающие лиц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ая помощь(?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РАНТЬЕ-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Граждане, которые живут на доходы от собственного капитал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10:32:27Z</dcterms:created>
  <dc:creator>User</dc:creator>
  <dc:description/>
  <dc:language>en-US</dc:language>
  <cp:lastModifiedBy>LEGION</cp:lastModifiedBy>
  <dcterms:modified xsi:type="dcterms:W3CDTF">2015-01-05T10:01:40Z</dcterms:modified>
  <cp:revision>11</cp:revision>
  <dc:subject/>
  <dc:title>Личные финансы</dc:title>
</cp:coreProperties>
</file>